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273-83DA-4806-B527-50F1406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7F2-DFE9-47E0-92B3-FFD6BB1F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69C-A94F-43C4-9B33-28282E78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572-340F-410C-8F17-EE3BF0A8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35B-640B-4278-9AEB-634D4460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A57-D5CE-4464-8CC2-3AF119BC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45B8-048D-4D71-9373-04538AA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99A-0E84-45BB-8CB1-BB9AFD93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2E91-98AB-418D-A45C-8DB816A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023-DD79-4179-AD42-0B81E84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DD8A-AA6C-4BDA-A552-3E96231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496-7111-4067-B455-72B22DC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4231-05B0-4E0C-89E8-09FA1CF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9557-F01E-4C24-B3FC-4C03400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FC8-288F-438B-9774-E74B470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BAD-E2B8-4065-93B0-BD420F73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924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65800" y="274284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5268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25924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65800" y="3539160"/>
            <a:ext cx="18154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7F5-478F-4838-8C00-71BD10B5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52F-BF03-4D46-B748-756B65F7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1E9-3EFA-43F0-AFC2-624A105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02A-20A2-459F-806E-AD1753FA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5CD-440A-41FC-9BD8-34AE16E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F14-8FE4-47A6-84A4-CCE942B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42400" y="353916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5DE-710C-4D62-AE1F-2F93E79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5268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42400" y="2742840"/>
            <a:ext cx="27518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52680" y="3539160"/>
            <a:ext cx="56390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08A-7056-4D94-A5F8-CB49627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9000" y="16002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3A61-A424-4FE7-8B6A-6B58C35370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977760"/>
            <a:ext cx="9131400" cy="586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31400" cy="106668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4a0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B1F-2A4B-4D44-8BD1-F75FDEF2B9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666633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274284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55Z</dcterms:modified>
  <cp:revision>49</cp:revision>
  <dc:subject/>
  <dc:title>幻灯片 1</dc:title>
</cp:coreProperties>
</file>